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10.gif" ContentType="image/gif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980B-4FDF-4D3B-ADF0-88FB90C98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8EC7-9C13-47C9-805B-5A2A52FF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3307CF-D16D-4442-B238-238C0ECE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84D382-EC86-46D2-872B-0B86620A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51689-5469-4BC7-BB71-E07607E5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160B8B-7C7C-4B34-B903-1D0B7E05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467214-153D-4275-AFBC-0E414D5B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1BAACF-CE82-4D53-8284-4E479D93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83304A-4DB1-409B-A77B-63487918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7F65F0-59CF-4B3C-9575-B35433493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E14114-3D9C-4661-9263-1FDA8EABE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9464D5-D2C2-4FB3-AEB4-1A72C000C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D4AA-2DFA-48AA-A8CF-3C7DA5C0A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B6763D-A856-423A-8167-C0901A60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F72D3E-BE18-4906-AB4E-56935E2F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615C35-EB9E-47FF-8217-9C7018CC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1AE421-91C5-427C-AE6B-D72432D1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24D909-750A-4482-BC7A-B01C9BE6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906C29-7677-4BD9-AB31-398E0047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52E90E-CD46-43E3-A8A0-2F13CBA8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7C70DF-6EC2-4E42-9168-F4BAA79D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FEDA8A-C87A-47BE-83A5-3F971D27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5990CB-5CE1-478D-90FD-1CC082146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003C-9C9C-4E73-A1FD-9586CFE53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B98EA7-66E5-499A-A7F9-498B2AAAE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48A170-7BA6-4ECE-B02E-FCCC3DA1C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EDDED-5A3E-4D2E-A804-1C4D116C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EA28EB-426F-400C-A82C-53A64CAC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45630-656B-40D5-A9EF-998E7A53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28F8A-00DC-4902-821F-FB235197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AD73D-2B6B-4076-9EED-0496999E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850B64-EDAB-4F0F-B236-48492D60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4AFD8-954B-467F-8A3D-36550F51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A5BE1A-7105-4B44-A6A9-97957D6A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FCCD-9420-48C6-B4E3-6FA057F42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E05FE-B180-49D6-BE59-2635479A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CD824-FC96-4CC0-A4A3-433489377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41FC65-65AD-43BE-8821-D209B6BDE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91F114-A0EC-49F0-9748-7EC306230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16B2EB-0A67-4F87-BB55-9676CA37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ABE676-ABE5-4DD0-9214-43842FBF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D1B578-FF6C-47DC-A5BD-18E412BB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5AF6A8-B200-4FE3-926D-3460AC84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6CD0E1-DB0B-4C2F-8346-20EE0498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CEB68D-A26B-4990-B821-59B38C09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76AF-DDB2-49C0-97A6-1FEFAA8E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08C746-8F25-4E03-82C9-514DAE54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80DE38-54AA-457A-9178-06A87D10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EEFA46-F9FE-4280-B8F8-024C48E2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5B2175-9A68-463A-8CEA-9874F0A64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F5F894-AA33-4486-84B6-B8223AC78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E5ECBB-5FD7-4285-9989-C5FBBA466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998EF9-0687-4CC2-9D04-E12A8CE6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6B39B9-4A7A-474E-BB63-0E63A1BE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B4A0F0-159F-424A-9AB0-807B132C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7D8AD4-FFEF-49ED-B052-A69DFF1D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991E-5280-449A-86C5-A45B61B4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795424-E854-4254-959F-A7BB7F4D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2FE460-DD7C-4F39-9FD3-C451F638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994DF8-9BEC-4DD6-AE04-0906A0C3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5CD2DB-8469-491B-A341-18D685CB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A66A1B-B1C1-4D1A-B418-A582F527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349D79-F8E5-400F-BD76-19350697F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53F406-E374-4B81-851F-A9BE18A84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75B9CA-56AA-495B-A708-23B356F45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044CFD-24A3-402D-B837-213A7DA9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C6B192-AF9C-4D3C-8CDE-A5F4DF38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D04A7-47C6-40DF-977C-296E556B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433D82-9929-4FF0-82A9-9A1E8FFC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38F23D-A487-46BE-83D0-D6BED33A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F66B03-723D-4D1E-A1E6-F7759242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B17D60-E7F4-434E-8C8C-B4648802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657B8B-F103-4A12-B144-E4EA36D2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80D271-CEBD-4F1C-B1AD-C35D3E1E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2E5882-6693-4CF2-96E5-F06D73D3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0C448E-932A-4F18-8A1E-90D6BC893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B7FEEE-A79E-4AB0-A294-8D9874799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F1116E-55FC-4BD7-A07D-603944EA6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7AF2-53E0-4088-9F90-1B564522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AF8769-6151-4416-9C58-38428C7D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70F4A9-7FDF-4E1B-AEDA-9FBA8EB8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4581E7-9D3C-49A7-81D8-4419BAF4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F6B5C6-C5DD-4FDA-B90C-47CE54C9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0A3E8A-79B4-432A-B90C-741E0B6B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73FD44-7B59-45A4-9B19-FED19400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1DE5B7-0FAC-4FDC-BA89-AF04BB0D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014C3F-BF8D-4AAA-884A-127C85E2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F88F24-C059-4EAA-BF0B-05E8B68B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214102-15E7-4613-AEA4-D61C51994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FAC9-1CC2-4237-BED2-74FCA012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A790DF-7F2E-46B9-BD8A-4065C6669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93CDEE-418C-4D12-8CBB-103FF7DFB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1A5740-93E2-498A-90E4-65EC23CC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DE9108-42B7-4DD8-B778-40777DA0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E1058B-A331-496B-8CC3-8516E754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B90439-1FDD-4AB0-BBE8-F40E373A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E1E655-767A-4E89-90F2-BA226410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F80C19-3D6E-4E5E-8455-3B8FF82C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1A71CE-A4DD-4F0C-A16C-78026604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B0B6F2-91CD-4DAB-83ED-EC810654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E3B16-F39A-41D4-A32D-23B5DB7C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43A55A-BDE8-46ED-8D59-2EE2760A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2483B0-5311-4745-8E29-4F18ECCAB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11E932-9D3A-4726-9AC5-C10B43B16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A55A01-412A-48ED-96E7-AF853E202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719A50-15F6-4EAA-AF97-F3F23ADD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61628A-8ADE-445C-9C66-A4C74B17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D82568-9718-4307-92F4-33AB6A3D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D28875-5A9D-40C2-9565-B7B05CA8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1001A8-D593-4E7C-BEBA-8119D661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608FBD-6C07-4F10-B96A-37FBE381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072A-EB67-462A-A518-A7645F88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090A7-C01E-4257-AFE8-1C5019FA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8C3E82-951C-46BB-8310-871990AE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A3E337-DA16-4D6D-B7D0-CF38BBD2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77B90E-5C0E-4771-8E1E-32CBCB2B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F128B7-1D0F-45F3-9C19-FE3C61EB6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8574A0-C0B6-4B4A-85F8-8E43EF83C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D739F8-4C55-49D7-AA74-63BB1BCBA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47E9F4-B939-42EA-88EC-1761652D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10BBD0-AC83-40A7-8473-91DB5DB4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EC5C97-A583-417C-BB12-2EB0D1BF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24CB5D-8DFC-478B-AF71-C8AE612E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0FAD7-902B-43AC-9009-AFB29B1E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6B35A6-1084-416B-84DF-4DE82E33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880312-7CDE-4C45-ADBE-9AD1C9C1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1BB262-50D1-49DA-91B0-ADB4CCD1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748D69-A4D7-44FA-9649-93D8F796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B7122E-A263-46A0-8931-1432EAF3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3F438A-6C6F-4D60-B4D3-B8D39984F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585694-D8BF-4C5A-892D-22E9761CF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8D177B-CF7E-42F5-AB94-49A6EB094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7D9FF4-5DB4-40AE-9E69-187AB529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BE4BC3-2812-4F51-915F-B3249057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65A5-99BB-4F4B-9A1C-595E75CF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8CB8DA-E492-472E-BBBF-D2F6B6B9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68D6AA-728C-484A-A7F6-F0A9D214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DF516D-A4F0-45CF-A6FC-5E759F78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50D65D-29A6-442C-80CD-75AF2A5C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6C21EF-95D1-4AFF-80BC-8B384BFE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F883BE-D0FE-4A34-B4B6-60ACA4A5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F63DA7-AEBC-4A3E-961F-4B15A78F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7AB113-845B-4AF2-950E-449D596C0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8E06F1-B2AA-446D-9BBA-3EFE0A554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7E7972-BF01-4972-8A2D-1887F0946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F76E2-A812-4404-A003-D8D66C058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AFAA04-AF06-48FE-A6E3-61790BDD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816CA1-1A1F-4E13-9235-7E283DD6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9A1B45-8F3E-4DAA-BE3A-B586069B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D86BCC-63A7-4E3B-9C35-4BD096CA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BE0FF9-BAAD-40E7-920E-4758F941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E74385-E759-431E-8F1E-6D77E448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C3CCD2-4CED-4D0C-9EDF-2C7C4C5F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35F785-507D-4F61-9499-BBAD67DF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077E2A-4AF8-4685-8F92-C00880C9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597FED-1D68-404E-B43D-B7FDEBF9F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4689-DB65-441C-A705-1876495CC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A28463-C1CB-41F6-B3AA-4136F44D9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1F6F25-1716-44BA-A8A6-261FD63D9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145470-D2A0-4ECC-B861-FFE25BC6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A52B16-81D6-4347-8C63-451FB961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519403-AD9F-4B93-82BD-67B9E020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610E4B-28BE-49F6-A896-8766EDF3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870FD0-53A8-416D-AEC7-947E2BDF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1F72BC-63D9-4183-BA7A-EFE1CB81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080864-C8AB-4935-86A5-0257E824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3111C9-4E9D-48F4-843E-828F8B75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F6C31-FF7A-4831-BE09-B35867225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8A956C-5FA6-4C7E-8A99-C3B6EC48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07DF45-9135-4D84-867F-475FBEAF2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A22DC3-3A82-4B1E-B295-3DCBA0082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98E6CF-9919-42C3-82CC-D52F0A460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10865E-954F-4A92-98DE-2E8B6385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61E9C9-EFF2-4BDE-A148-23AF5462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83619E-117D-4175-B856-8B3121BB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A2903F-F43A-4769-BFD5-F14A9776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96C616-D78F-4446-86E7-92AC8456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67AB91-5BA0-4DEE-9AE8-04208CA6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DE7AD-914F-4090-B834-A689F152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81C0F1-C61C-46A1-AC86-0042E032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B303F3-50F0-4810-A1A0-873975E0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E92CA6-CCC0-4D00-A614-34A0F8B0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CAA14F-E3D9-4933-B76F-F406CF494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1AEB42-D666-438F-99A6-9B6AFA1EB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D9E86B-FCE3-4D76-9902-63FEAE9FF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0C88ED-395D-43A0-8365-FF9BDC44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1CB8C9-F097-477F-9F76-E598B9C4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8AE071-FF02-4DE2-9D4E-589E198F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DF8249-7784-48AE-B046-313A0933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A1547-C2FD-4B54-ABDE-A8E1F7B0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B449FE0-01B9-4C0F-A69E-D35F8ACA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D44737-B930-4730-9552-BD518CBD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0C72C2-1AF9-4381-B7BD-1E744750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28D735-6FC2-4CC4-8665-C8A97CA3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71545E-5123-43C1-8CF6-2E8D0956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155240-C3E9-4C9B-B225-72B22B2F8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320AEF-1A77-4553-8A5F-05E31984D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5C3396-D33D-4C06-8A63-939AA09B2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A13F5B-1C5A-459D-B478-15F0103A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5E7BA1-9CC0-4B46-A7F5-7D92DE13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53065-E665-4A83-B3E9-C6E59885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E75AED-CEEC-4AF8-B859-493EDEF3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A32E6D-D782-4254-B98A-3F5A482E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9BB36C-A210-4C98-8377-C0D1E986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5D9E50C-DA77-4AD6-BAE6-5ECC22BF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AA64EA-0A51-41A3-B9D7-8BFCC86B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74228A8-5718-45B0-8D2A-37342F2E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517BC93-F89D-4DD9-86C5-10CA39BA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27C7CD-AE40-4A3F-9399-BE173A631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6277D7-033E-4BBF-BFF2-9A556B4A4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BC9B3-4259-404C-BE5D-7AC863AD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6654-D463-45FC-B81D-954D0924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B0086-81E4-4F70-800E-ECFF2BDE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908A9-6D6A-48DA-9109-18BD3B41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B57FA-01A2-431E-A32F-D9AC7D5B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50689-9A7D-4F92-89B8-2441BD9D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A5AC5-2F8D-4C42-B9E9-7D90E192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45B43-88A6-434E-9F3C-27A75D31C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D867E-2A88-4918-8548-7B170F897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34CDC-EB4B-491A-9D4D-45C0B1258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A556B-F76E-45D5-8083-3F7C65A8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7B47D-563E-4A4F-BBEB-E9D00896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0F6C-1296-4484-AD34-F4B0623C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C6850-4697-402D-A99A-66F74FFE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0F86D-7094-472E-80FA-536433CB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2447E-E31B-46A4-AD1B-7063416D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F5D2A-F5CE-49B1-927D-D869E214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41101-01C2-49CA-942C-2E391A64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10EE2-EF97-4322-B3C8-9A17160B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A58AC-A4A8-44A8-B7BA-F34793B4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E421F-62DB-48FC-A58B-68C343D7D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74DF0-09F3-4AA6-99E9-CB6BB4916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ECC6D-DD85-4E7F-AA08-909945950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4019-65AF-49F2-BB5C-2857DB46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EF1DE-CB58-4963-AC50-9E4CF822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217F2-E248-4DAF-B200-3A7E19AD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1CD5C-19D1-4C07-A960-38C3F3EF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E4F6B-D9DF-4891-86A5-F25DAD48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E4E28-CAD0-4C74-8BA9-B51B4FC3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E80E2-8933-4F22-921E-64F3C4E8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A7872-B962-447D-815A-B1F20DD4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5E0CE-5CCB-408F-97D4-EAE8C645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CC889-742B-4C0E-B642-EF03D20C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111DB-7650-4E6F-B436-3C1245FD6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63BE-EBB1-4E13-B102-27D93548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F193E-DA43-44C6-8310-6939BC980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083EA-1BBE-4012-A482-AFD61F05E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BC4F5-6633-411F-BAE9-245356C2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769A9-3532-4F15-BCD0-11788E28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CDBB4-BC4C-41FD-9377-A34DD7A5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7CEE1-E73A-44F8-B91F-7DFDF7CC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C9039-A58D-4B3D-8111-0A6710E4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D3066-832C-46FC-AC8E-E33861ED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A4883-D9F0-49F6-9C66-376EBC0F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FB34F-C972-4BB4-8E66-B1F97D3E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28A0-2664-423E-949F-E2B77CE2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8C83A-A319-48D7-8BFE-D2AF19E4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B97D9-829F-42B8-B9F4-7C8243DBB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4A526-0424-41E8-9C14-6BE2C23F2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01615-3A7C-4842-9E70-39A25DE89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5D6D4-D306-4396-95AB-3F24A081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8160E-BB2A-42CB-8FF3-D4108913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527A0-C10E-4A75-8B6F-4A3C4BAB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4A76E-1D53-44AE-ACB7-E5D142C5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3C69A-851B-4AA6-9452-7B476044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11681-C7AC-43D8-B659-B056F951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ED16-6CE9-4CE7-9E36-17F1EBC2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7D1D6-F757-4BBC-9DD6-4F36D3FF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D5813-A530-43E8-A775-ED29D37D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626B8-0CCD-4115-86E5-90070BEE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C0B46-2A2A-4B1A-ABEB-CC95A8C87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3B412-E63B-406D-8513-0518A9529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4C8D6-0045-4576-BC53-6563E3BD4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CA177-5ACF-41DA-9661-BE868F99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33D13-8F79-4BE1-9762-C8DD8190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4B516-DAB1-46D4-9AAB-151704FD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4E89D-0EB8-4A4A-AEA4-6F567B38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2B41-3371-425A-A8D7-B7917A54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CED3A-ADFA-40A2-B0F2-7ED88074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F8A21-4B28-48C6-90E9-E90FF48B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12F05-C19F-4575-BD95-018FB936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6D374-1760-4FFF-829E-F4049E78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A669D-D6A1-408C-9A09-88F7F9E8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73B04-9F4B-4389-B932-62960C6B5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1E77D-3479-4792-BF8B-47714C0A0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B01FEF-9DE7-4CF6-9161-174B1B309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16511-4074-40B9-B726-5237FD99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31925-325C-41C1-A4D1-F7890DA7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6E3B-508C-429B-AD14-ADB483A5AB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C34F-4CD9-41EC-BB10-9C8C3797A0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96E1-88B0-4F17-9CC2-058F879203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DD29-94D6-4B2B-882E-9C306650A5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5779-AD0A-4701-9A36-5600202C9F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461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50A0-2E8F-438E-9760-6CBCD049D95B}" type="slidenum"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461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ED3E-14E8-494B-9136-A2C6C0FE3A58}" type="slidenum"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461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A0ED-B55C-453F-84C1-48DBC3BEE384}" type="slidenum"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461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3478-FFA4-4A78-BF9B-4385B8F3B117}" type="slidenum"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461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CE8D-1B66-4614-AF47-EE95958E31F4}" type="slidenum"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461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443D-1227-4716-9E40-33B6084FAD1E}" type="slidenum"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461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ABA4-C620-4354-87B7-AFF211C029AD}" type="slidenum"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461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9153-F5FB-48B1-8455-B318B416E82C}" type="slidenum"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8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461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DE43-2A51-48A1-9267-79F409A3FD9B}" type="slidenum"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461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68AD-4487-43F2-9B7A-184DA13125EF}" type="slidenum"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461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87B1-1073-4BA3-8407-6F6449F1853B}" type="slidenum"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461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8128-86AF-48BE-AC83-0E0748581830}" type="slidenum"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879F-E86E-4FDF-85FF-D2F9094706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E8EE-7305-4549-AF4B-05EAA1E4A0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BDCC-BF6C-4820-B86A-AA10859E92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F259-A881-4074-B034-6A99CF133C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CB89-3188-4C32-8C93-933949792A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F23C-5CCB-4AFE-BD21-6199047B37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A2A6-9F81-4AF6-BCAB-15B937E179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radikal.ru/" TargetMode="Externa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TextBox 1"/>
          <p:cNvSpPr/>
          <p:nvPr/>
        </p:nvSpPr>
        <p:spPr>
          <a:xfrm>
            <a:off x="1222920" y="1413000"/>
            <a:ext cx="71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ambria Math"/>
                <a:ea typeface="Cambria Math"/>
              </a:rPr>
              <a:t>Физминутка</a:t>
            </a: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7" name="Рисунок 2" descr="J0344895.WMF"/>
          <p:cNvPicPr/>
          <p:nvPr/>
        </p:nvPicPr>
        <p:blipFill>
          <a:blip r:embed="rId1"/>
          <a:stretch/>
        </p:blipFill>
        <p:spPr>
          <a:xfrm>
            <a:off x="5651640" y="3284640"/>
            <a:ext cx="2668320" cy="2786040"/>
          </a:xfrm>
          <a:prstGeom prst="rect">
            <a:avLst/>
          </a:prstGeom>
          <a:ln w="0">
            <a:noFill/>
          </a:ln>
        </p:spPr>
      </p:pic>
      <p:pic>
        <p:nvPicPr>
          <p:cNvPr id="998" name="177_Ricky Martin - Living La Vida Loca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9" name="Picture 2" descr="http://s42.radikal.ru/i095/0808/d7/7a7900fc4a31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1413000"/>
            <a:ext cx="2781360" cy="4572000"/>
          </a:xfrm>
          <a:prstGeom prst="rect">
            <a:avLst/>
          </a:prstGeom>
          <a:ln w="0">
            <a:noFill/>
          </a:ln>
        </p:spPr>
      </p:pic>
      <p:sp>
        <p:nvSpPr>
          <p:cNvPr id="1000" name="TextBox 3"/>
          <p:cNvSpPr/>
          <p:nvPr/>
        </p:nvSpPr>
        <p:spPr>
          <a:xfrm>
            <a:off x="1258920" y="981000"/>
            <a:ext cx="3673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 зарядку становис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немного разомнис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Рисунок 1" descr="слон, анимашка"/>
          <p:cNvPicPr/>
          <p:nvPr/>
        </p:nvPicPr>
        <p:blipFill>
          <a:blip r:embed="rId1"/>
          <a:stretch/>
        </p:blipFill>
        <p:spPr>
          <a:xfrm>
            <a:off x="2987640" y="2133720"/>
            <a:ext cx="5508720" cy="3671640"/>
          </a:xfrm>
          <a:prstGeom prst="rect">
            <a:avLst/>
          </a:prstGeom>
          <a:ln w="0">
            <a:noFill/>
          </a:ln>
        </p:spPr>
      </p:pic>
      <p:pic>
        <p:nvPicPr>
          <p:cNvPr id="1002" name="011 Yu. Savicheva - Esli V Serdtse Zhivet Lyubov'.mp3" descr=""/>
          <p:cNvPicPr/>
          <p:nvPr/>
        </p:nvPicPr>
        <p:blipFill>
          <a:blip r:embed="rId2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03" name="Прямоугольник 5"/>
          <p:cNvSpPr/>
          <p:nvPr/>
        </p:nvSpPr>
        <p:spPr>
          <a:xfrm>
            <a:off x="611280" y="1700280"/>
            <a:ext cx="273672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Прямоугольник 7"/>
          <p:cNvSpPr/>
          <p:nvPr/>
        </p:nvSpPr>
        <p:spPr>
          <a:xfrm>
            <a:off x="3276720" y="1773360"/>
            <a:ext cx="53989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5" name="Группа 8"/>
          <p:cNvGrpSpPr/>
          <p:nvPr/>
        </p:nvGrpSpPr>
        <p:grpSpPr>
          <a:xfrm>
            <a:off x="1476360" y="907920"/>
            <a:ext cx="5141520" cy="1556280"/>
            <a:chOff x="1476360" y="907920"/>
            <a:chExt cx="5141520" cy="1556280"/>
          </a:xfrm>
        </p:grpSpPr>
        <p:sp>
          <p:nvSpPr>
            <p:cNvPr id="1006" name="TextBox 4"/>
            <p:cNvSpPr/>
            <p:nvPr/>
          </p:nvSpPr>
          <p:spPr>
            <a:xfrm>
              <a:off x="1476360" y="907920"/>
              <a:ext cx="45669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Головой кивает слон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TextBox 4"/>
            <p:cNvSpPr/>
            <p:nvPr/>
          </p:nvSpPr>
          <p:spPr>
            <a:xfrm>
              <a:off x="1641240" y="1411920"/>
              <a:ext cx="497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пять раз делаем как он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85735" fill="hold"/>
                                        <p:tgtEl>
                                          <p:spTgt spid="10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8" name="Picture 4" descr="http://www.clubdances.ru/dance/196.gif"/>
          <p:cNvPicPr/>
          <p:nvPr/>
        </p:nvPicPr>
        <p:blipFill>
          <a:blip r:embed="rId1"/>
          <a:stretch/>
        </p:blipFill>
        <p:spPr>
          <a:xfrm>
            <a:off x="2484360" y="1700280"/>
            <a:ext cx="4143600" cy="4143240"/>
          </a:xfrm>
          <a:prstGeom prst="rect">
            <a:avLst/>
          </a:prstGeom>
          <a:ln w="0">
            <a:noFill/>
          </a:ln>
        </p:spPr>
      </p:pic>
      <p:pic>
        <p:nvPicPr>
          <p:cNvPr id="1009" name="Tanec_utyat.mp3" descr=""/>
          <p:cNvPicPr/>
          <p:nvPr/>
        </p:nvPicPr>
        <p:blipFill>
          <a:blip r:embed="rId2"/>
          <a:stretch/>
        </p:blipFill>
        <p:spPr>
          <a:xfrm>
            <a:off x="8715240" y="63579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0" name="Прямоугольник 5"/>
          <p:cNvSpPr/>
          <p:nvPr/>
        </p:nvSpPr>
        <p:spPr>
          <a:xfrm>
            <a:off x="611280" y="1628640"/>
            <a:ext cx="194472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Прямоугольник 6"/>
          <p:cNvSpPr/>
          <p:nvPr/>
        </p:nvSpPr>
        <p:spPr>
          <a:xfrm>
            <a:off x="6659640" y="1628640"/>
            <a:ext cx="194472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Box 4"/>
          <p:cNvSpPr/>
          <p:nvPr/>
        </p:nvSpPr>
        <p:spPr>
          <a:xfrm>
            <a:off x="2000520" y="692280"/>
            <a:ext cx="556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уку вверх и руку вниз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три раза поверни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89012" fill="hold"/>
                                        <p:tgtEl>
                                          <p:spTgt spid="10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3" name="Picture 2" descr="http://www.nivagold.ru/raznoe/raz/panda/0001-402.gif"/>
          <p:cNvPicPr/>
          <p:nvPr/>
        </p:nvPicPr>
        <p:blipFill>
          <a:blip r:embed="rId1"/>
          <a:stretch/>
        </p:blipFill>
        <p:spPr>
          <a:xfrm>
            <a:off x="4500720" y="2565360"/>
            <a:ext cx="3663720" cy="39416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4" descr="http://www.nivagold.ru/raznoe/raz/panda/pandas-3.gif"/>
          <p:cNvPicPr/>
          <p:nvPr/>
        </p:nvPicPr>
        <p:blipFill>
          <a:blip r:embed="rId2"/>
          <a:stretch/>
        </p:blipFill>
        <p:spPr>
          <a:xfrm>
            <a:off x="684360" y="1557360"/>
            <a:ext cx="2011320" cy="2143080"/>
          </a:xfrm>
          <a:prstGeom prst="rect">
            <a:avLst/>
          </a:prstGeom>
          <a:ln w="0">
            <a:noFill/>
          </a:ln>
        </p:spPr>
      </p:pic>
      <p:pic>
        <p:nvPicPr>
          <p:cNvPr id="1015" name="tantsuy_rossiya.mp3" descr=""/>
          <p:cNvPicPr/>
          <p:nvPr/>
        </p:nvPicPr>
        <p:blipFill>
          <a:blip r:embed="rId3"/>
          <a:stretch/>
        </p:blipFill>
        <p:spPr>
          <a:xfrm>
            <a:off x="8839080" y="64292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6" name="TextBox 4"/>
          <p:cNvSpPr/>
          <p:nvPr/>
        </p:nvSpPr>
        <p:spPr>
          <a:xfrm>
            <a:off x="2672640" y="549360"/>
            <a:ext cx="4868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учками похлопал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ожками потопал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лазками помига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вокруг попрыгал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13000" fill="hold"/>
                                        <p:tgtEl>
                                          <p:spTgt spid="10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7" name="Рисунок 13" descr="цыпленок, анимашка"/>
          <p:cNvPicPr/>
          <p:nvPr/>
        </p:nvPicPr>
        <p:blipFill>
          <a:blip r:embed="rId1"/>
          <a:stretch/>
        </p:blipFill>
        <p:spPr>
          <a:xfrm>
            <a:off x="5364000" y="836640"/>
            <a:ext cx="3000600" cy="4240080"/>
          </a:xfrm>
          <a:prstGeom prst="rect">
            <a:avLst/>
          </a:prstGeom>
          <a:ln w="0">
            <a:noFill/>
          </a:ln>
        </p:spPr>
      </p:pic>
      <p:pic>
        <p:nvPicPr>
          <p:cNvPr id="1018" name="Tanec_utyat.mp3" descr=""/>
          <p:cNvPicPr/>
          <p:nvPr/>
        </p:nvPicPr>
        <p:blipFill>
          <a:blip r:embed="rId2"/>
          <a:stretch/>
        </p:blipFill>
        <p:spPr>
          <a:xfrm>
            <a:off x="8643960" y="63579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9" name="TextBox 3"/>
          <p:cNvSpPr/>
          <p:nvPr/>
        </p:nvSpPr>
        <p:spPr>
          <a:xfrm>
            <a:off x="1071720" y="2492280"/>
            <a:ext cx="6275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у-ка, гляньте на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попробуйте как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бята не лен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 раз вперёд вы наклоните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Прямоугольник 4"/>
          <p:cNvSpPr/>
          <p:nvPr/>
        </p:nvSpPr>
        <p:spPr>
          <a:xfrm>
            <a:off x="611280" y="1557360"/>
            <a:ext cx="482436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Прямоугольник 5"/>
          <p:cNvSpPr/>
          <p:nvPr/>
        </p:nvSpPr>
        <p:spPr>
          <a:xfrm>
            <a:off x="8317080" y="1844640"/>
            <a:ext cx="2872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89012" fill="hold"/>
                                        <p:tgtEl>
                                          <p:spTgt spid="10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Рисунок 16" descr="страус, анимашка, анимация"/>
          <p:cNvPicPr/>
          <p:nvPr/>
        </p:nvPicPr>
        <p:blipFill>
          <a:blip r:embed="rId1"/>
          <a:stretch/>
        </p:blipFill>
        <p:spPr>
          <a:xfrm>
            <a:off x="5219640" y="907920"/>
            <a:ext cx="3071880" cy="5381640"/>
          </a:xfrm>
          <a:prstGeom prst="rect">
            <a:avLst/>
          </a:prstGeom>
          <a:ln w="0">
            <a:noFill/>
          </a:ln>
        </p:spPr>
      </p:pic>
      <p:pic>
        <p:nvPicPr>
          <p:cNvPr id="1023" name="zhuravlik.mp3" descr=""/>
          <p:cNvPicPr/>
          <p:nvPr/>
        </p:nvPicPr>
        <p:blipFill>
          <a:blip r:embed="rId2"/>
          <a:stretch/>
        </p:blipFill>
        <p:spPr>
          <a:xfrm>
            <a:off x="8715240" y="64292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24" name="TextBox 3"/>
          <p:cNvSpPr/>
          <p:nvPr/>
        </p:nvSpPr>
        <p:spPr>
          <a:xfrm>
            <a:off x="633600" y="1341360"/>
            <a:ext cx="5338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 раз сели 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 раз вста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 пока мы не уста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626093" fill="hold"/>
                                        <p:tgtEl>
                                          <p:spTgt spid="10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Picture 4" descr="http://www.clubdances.ru/dance/351.gif"/>
          <p:cNvPicPr/>
          <p:nvPr/>
        </p:nvPicPr>
        <p:blipFill>
          <a:blip r:embed="rId1"/>
          <a:stretch/>
        </p:blipFill>
        <p:spPr>
          <a:xfrm>
            <a:off x="0" y="0"/>
            <a:ext cx="5486400" cy="4572000"/>
          </a:xfrm>
          <a:prstGeom prst="rect">
            <a:avLst/>
          </a:prstGeom>
          <a:ln w="0">
            <a:noFill/>
          </a:ln>
        </p:spPr>
      </p:pic>
      <p:pic>
        <p:nvPicPr>
          <p:cNvPr id="1026" name="100 Chernila - Davai Gulyai.mp3" descr=""/>
          <p:cNvPicPr/>
          <p:nvPr/>
        </p:nvPicPr>
        <p:blipFill>
          <a:blip r:embed="rId2"/>
          <a:stretch/>
        </p:blipFill>
        <p:spPr>
          <a:xfrm>
            <a:off x="8715240" y="63579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27" name="TextBox 3"/>
          <p:cNvSpPr/>
          <p:nvPr/>
        </p:nvSpPr>
        <p:spPr>
          <a:xfrm>
            <a:off x="4815360" y="2565360"/>
            <a:ext cx="4313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в конце заряд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ш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жирафы 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пляш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09584" fill="hold"/>
                                        <p:tgtEl>
                                          <p:spTgt spid="10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5:31:01Z</dcterms:created>
  <dc:creator>Рустемка</dc:creator>
  <dc:description/>
  <dc:language>en-US</dc:language>
  <cp:lastModifiedBy>Наталья</cp:lastModifiedBy>
  <dcterms:modified xsi:type="dcterms:W3CDTF">2012-08-08T16:24:55Z</dcterms:modified>
  <cp:revision>64</cp:revision>
  <dc:subject/>
  <dc:title>Слайд 1</dc:title>
</cp:coreProperties>
</file>